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13B-E8D3-4462-B724-FD8C72D4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E3C-A8C8-4D8A-BEDD-D9CA031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56B-8B19-4C00-875C-304A97CC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D32-FA53-464A-AE89-EAD45339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2042-EDFF-4C1C-8650-9E1D4700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528AE-1EA4-4B03-B431-4A31BB4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28C4C-B33F-4B5D-9F67-14BAF9E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F33D-3DA6-4583-A80C-C6745371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2CC5-9115-415F-8EFE-7020770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0468-8863-4524-96AC-B838A07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9AE6E-5560-4AB0-8D1F-BD684B2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F89-F45C-4F1E-89D1-71F03325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1C75D-3113-4B79-A017-C66BC9C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0B84-23C4-40EB-A345-903BBE53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ACE3B-8453-4466-9415-84D57A65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ACC5-B309-4D90-8314-90E0F6F2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66B49-447C-4A1A-A843-DB7A438F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932-704B-4E3C-9DB9-51AD70A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A45-B5F1-4201-8639-9EA72BE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4D9-B0B2-473B-B52C-5CABA9C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7E5-AD06-4013-9384-DBB7CEC7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80D-F27B-48AF-9E79-B0F6246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A19-582C-40F4-9B74-F6D6D694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F7E-4E30-4895-AA96-A846FE6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F0CB-8B64-4530-883A-EC9C762FF0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EAC-0350-4F9A-8569-542B404DA8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905120"/>
            <a:ext cx="830592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ИМИ   И   КРАСИ - Б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457200"/>
            <a:ext cx="757692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ИНАВ ТУ ДЕВЛА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4419720"/>
            <a:ext cx="815364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Я ТЕ ГОСПОДИ</a:t>
            </a:r>
            <a:endParaRPr b="0" i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6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04920"/>
            <a:ext cx="4572000" cy="6492960"/>
          </a:xfrm>
          <a:prstGeom prst="rect">
            <a:avLst/>
          </a:prstGeom>
          <a:gradFill rotWithShape="0">
            <a:gsLst>
              <a:gs pos="0">
                <a:srgbClr val="6699ff">
                  <a:alpha val="20000"/>
                </a:srgbClr>
              </a:gs>
              <a:gs pos="50000">
                <a:srgbClr val="010199">
                  <a:alpha val="20000"/>
                </a:srgbClr>
              </a:gs>
              <a:gs pos="100000">
                <a:srgbClr val="6699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МОЛИНАВ ТУ ДЕВ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ТЕ ОКРЕПИНЕС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КАЙ БИТИ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СИОМ БУТ СЛАБ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ТУТЕ РАЗЧИТ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ТУТЕ УПОВ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ТУ САР СИ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ДЕВЛА БУТ СИЛНО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35760" y="1371600"/>
            <a:ext cx="36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МОЛЯ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ТЕ БОЖЕ  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ДА МЕ УКРЕПИШ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ЗАЩОТО БЕЗ ТЕБ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ЧУСТВАМ МНОГО СЛА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НА ТЕБЕ РАЗЧИ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И НА ТЕБЕ УПОВА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С ТЕБ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 ГОСПОДИ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СЪМ МНОГО СИ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560" y="228600"/>
            <a:ext cx="3948120" cy="563976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50000">
                <a:srgbClr val="33cccc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/ МОЖИВОТОС ДЕВ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СИ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ТЕРЕ ВАСТЕН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ТУТЕ МЕКАВ МАН 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ЧРЕЗ ТУТЕ ЖИВ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ЧРЕЗ ТУТЕ ДИШ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ВСИЧКО ЧРЕЗ ТУ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Verdana"/>
              </a:rPr>
              <a:t>МЕ КЕРАВ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965160"/>
            <a:ext cx="4343400" cy="411732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ffff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ЖИВОТЪТ МИ ГОСПОД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Е ВЪВ ТВОИТЕ РЪ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ОСТАВЯМ СЕБЕ СИ ВЪ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ТВОИТЕ РЪ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ЧРЕЗ ТЕБ ЖИВЕ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ЧРЕЗ ТЕБ ДИШ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ВСИЧКО Ч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Verdana"/>
              </a:rPr>
              <a:t>ТЕБ ВЪРША.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4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5560"/>
            <a:ext cx="4495680" cy="563796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50000">
                <a:srgbClr val="010199">
                  <a:alpha val="20000"/>
                </a:srgbClr>
              </a:gs>
              <a:gs pos="100000">
                <a:srgbClr val="ffff00">
                  <a:alpha val="2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ВСИЧКО ТЕ ВАСТЕНД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МАНГАВ МЕ ТЕ МУКА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ЖАНАВ КАЙ ТУ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КА ПОМИСЛИНЕ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ТУТЕ РАЗЧИТИНАВ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ТУТЕ УПОВИНАВ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ТУ САР СИОМ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600" spc="-1" strike="noStrike">
                <a:solidFill>
                  <a:srgbClr val="ffff00"/>
                </a:solidFill>
                <a:latin typeface="Arial"/>
              </a:rPr>
              <a:t>ДЕВЛА БУТ СИЛНО.</a:t>
            </a:r>
            <a:r>
              <a:rPr b="0" i="1" lang="bg-BG" sz="26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5520" y="1523880"/>
            <a:ext cx="3817080" cy="411732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50000">
                <a:srgbClr val="00c600">
                  <a:alpha val="20000"/>
                </a:srgbClr>
              </a:gs>
              <a:gs pos="100000">
                <a:srgbClr val="ffff00">
                  <a:alpha val="2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ВСИЧКО В ТВОИТЕ РЪ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ИСКАМ АЗ ДА ОСТАВ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КАТО ЗНАМ,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ЧЕ ТИ Щ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ПРОМИСЛИШ ЗА М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НА ТЕБ РАЗЧИТ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НА ТЕБ УПОВА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СЪС ТЕБ АЗ СЪ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00"/>
                </a:solidFill>
                <a:latin typeface="Verdana"/>
              </a:rPr>
              <a:t>МНОГО СИ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4000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2560" y="380880"/>
            <a:ext cx="3948120" cy="606636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50000">
                <a:srgbClr val="000099">
                  <a:alpha val="20000"/>
                </a:srgbClr>
              </a:gs>
              <a:gs pos="100000">
                <a:srgbClr val="ffffff">
                  <a:alpha val="2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/ МОЖИВОТОС ДЕВ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СИ ТЕРЕ ВАСТЕН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ТУТЕ МЕКАВ МАН 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ЧРЕЗ ТУТЕ ЖИВ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ЧРЕЗ ТУТЕ ДИШИН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ВСИЧКО ЧРЕЗ ТУ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Verdana"/>
              </a:rPr>
              <a:t>МЕ КЕРАВ.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77000" y="2057400"/>
            <a:ext cx="3803400" cy="439164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ЖИВОТЪТ МИ ГОСПОД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Е  ВЪВ ТВОИТЕ РЪ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ОСТАВЯМ СЕБЕ СИ ВЪ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ВОИТЕ РЪ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ЧРЕЗ ТЕБ ЖИВЕ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ЧРЕЗ ТЕБ ДИШ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ВСИЧКО Ч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Verdana"/>
              </a:rPr>
              <a:t>ТЕБ ВЪРША.</a:t>
            </a:r>
            <a:r>
              <a:rPr b="0" lang="bg-BG" sz="18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2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17:38Z</dcterms:created>
  <dc:creator>TrifonTrifonow</dc:creator>
  <dc:description/>
  <dc:language>en-US</dc:language>
  <cp:lastModifiedBy>TrifonTrifonow</cp:lastModifiedBy>
  <dcterms:modified xsi:type="dcterms:W3CDTF">2006-02-11T18:41:47Z</dcterms:modified>
  <cp:revision>3</cp:revision>
  <dc:subject/>
  <dc:title>Slide 1</dc:title>
</cp:coreProperties>
</file>